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612-7998-4342-939F-F34B2F21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42-7EF2-434A-9FE5-7142CCA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4B4-F340-4AB4-8E47-FCEAFA3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555-6CA4-418B-AB14-9E6B48F6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CE3-4B45-465F-B76D-68919341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E99-8F00-4D90-85B7-BD19004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703-6089-4B82-B731-4485580F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6EE8-5B79-47BB-9580-B75350B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D82-B08C-4D1A-BC67-C7B826C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FF7E-2482-41D6-A12D-038D87FF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2B5E-6274-4B88-81B0-6E8866D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C98-92AA-45F5-93B5-ADD8190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123-915C-4E94-8F7F-A217A13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2BE4-74F4-4D4B-A4B6-60013E5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44EB-FF71-4422-ABF8-6EA575C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C7F-5325-4B56-BE98-F337EF1D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EF06-FB1C-4121-828E-A7251FCA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49F-F8D7-4A4E-B812-1CA3548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E0E-95F5-44AD-871E-38336E0B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B27-D0BF-4838-A79D-DD5830AA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FF6-4112-4FD5-880E-7A771153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907-1E7E-4FAC-AED5-E54B0D4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78E-F29E-4FBF-9FD3-13E65A1C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A0E-3E2A-4528-987D-2479849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45EB-78E4-4CBC-AA88-C793855FC17A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C43B-CE3C-4182-9EC0-21490FA31918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becta.org.uk/index.php?section=srf&amp;catcode=ss_to_srf_suc_icm_ben_04&amp;rid=14207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anttSRF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ECTA ICT Self Review Framewor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il Cl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ober 23rd 200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ifies your own self-review judgeme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whole school improvem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to be seen as centre of excell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you with credibility for hosting visits and providing servic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for learners to celebrate their use of IC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s parents confidence that technology is being used effectivel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parents that you offer better communication to families and hom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ICT Mark – Why bother cont’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forms other schools and organisations that you are a potential partner for extending opportunities for learning through techn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trengthens your bids for involvement in new initiativ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cognises your commitment to self-review and evalu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cognises your commitment and hard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cludes promotional material and guidance on how to use the ICT Mark to promote your scho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es it add value</a:t>
            </a:r>
            <a:r>
              <a:rPr b="0" lang="en-US" sz="4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s the learning and teaching of IC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sure we utilise our resources full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teaching staff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teaching staff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has this got to do with you – the teaching staff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What has this got to do with you – the teaching staff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the SRF process has begu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gnise that the SRF will hopefully lead to the ICT Mar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a folder exists on Office called SR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gnise that we will all be involved in the SR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ed to demonstrate the use of ICT in plannin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kely Review of the Eight Elements by the teaching staff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sion of ‘Evidence’ in accordance with the Action Pl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ware that a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Gantt Chart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xists the SRF folder – you may wish to keep a hard copy in your planning fi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the SRF, and what does it entail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CT self-review framework comprises eight element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&amp; Manag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rricul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rning &amp; Te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tending Opportunities For 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act On Pupil Outco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.g.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Learning &amp; Teaching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ore the stran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te an action to enable the reviewer to provide appropriate evidence to support the sc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‘ICT Mark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is an externally assessed quality mark against which organisations can measure whether they have reached a recognised standard of maturity in their use of technolog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40:28Z</dcterms:created>
  <dc:creator>neil clode</dc:creator>
  <dc:description/>
  <dc:language>en-US</dc:language>
  <cp:lastModifiedBy>neil clode</cp:lastModifiedBy>
  <dcterms:modified xsi:type="dcterms:W3CDTF">2007-10-22T12:13:52Z</dcterms:modified>
  <cp:revision>21</cp:revision>
  <dc:subject/>
  <dc:title>BECTA Self Review Framework (SRF)</dc:title>
</cp:coreProperties>
</file>